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577-C659-4225-87CC-FBC13CF4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C7D-D6ED-41D2-8B56-B5FB052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BCF-79A0-4506-B48F-65DF2AFE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362-E213-4717-8B8B-31885D00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D88-7F44-46F2-92F6-E6D3D25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874-4A44-4868-9411-BC7F2FF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EC9-19CE-4A12-A8BF-220644D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E84-EAF3-4209-93C0-043CAA1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5F6-6932-4DE2-B781-687D572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44B-0CF4-4889-B786-5CC0920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861-B54B-4367-B7A2-42E2A92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498-56D5-4839-9CE0-D8BCB019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01F9-B8C4-449F-9625-D4249C44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_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8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s la profes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; use at least 2 sentences to describe each patient (one using SER and another using 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2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8 (1-8) and WRITE if the sentence describes an ORIGIN or a COLOCA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aso de Se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0120" y="160020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hysical descriptions; traits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440" y="1981080"/>
            <a:ext cx="84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rigin; to tell where someone or something is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360" y="2362320"/>
            <a:ext cx="37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ll time; give a d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3360" y="2743200"/>
            <a:ext cx="39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pos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062160"/>
            <a:ext cx="91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profession, nationality, religion, political affi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080" y="3429000"/>
            <a:ext cx="75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ere or when an event is taking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440" y="3886200"/>
            <a:ext cx="57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at something is made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080" y="4267080"/>
            <a:ext cx="35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For math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0" y="5105520"/>
            <a:ext cx="39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express a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360" y="510552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dentify a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60" y="548640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alk about certain weathe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" y="5881680"/>
            <a:ext cx="59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a change from the n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600" y="6338880"/>
            <a:ext cx="83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specify the special state or nature of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ju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Es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SER / ESTAR Quiz TOMORROW pd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3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0204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0:35:23Z</dcterms:created>
  <dc:creator>Helen Zumaeta</dc:creator>
  <dc:description/>
  <dc:language>en-US</dc:language>
  <cp:lastModifiedBy>Helen Zumaeta</cp:lastModifiedBy>
  <dcterms:modified xsi:type="dcterms:W3CDTF">2011-04-28T01:28:38Z</dcterms:modified>
  <cp:revision>4</cp:revision>
  <dc:subject/>
  <dc:title>Me llamo ___________ Clase 7 IM La fecha es el 28 de abril del 2011</dc:title>
</cp:coreProperties>
</file>